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68E-2368-4FE7-ADEF-35DDBA39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384-BF44-4CD0-9E2E-A30003A3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3D2-FA99-4176-A387-B8681D2E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9A3-ECA3-4592-B867-57365101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BCE2-6688-4809-B76D-C45B4BA6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F7A-4EE1-4F43-BBE8-33125E2E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E175-3811-43EE-B86C-08D56017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C61E-CB2D-4497-B812-DF1361EA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3EB5-7368-4497-A6B8-B9C6CCC3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27C8-41A9-43BC-A316-00279F87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6FB4-9AFE-4AE0-B2B4-6AAC3000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BB62-4446-484C-92AC-AF31C39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A985-888A-4942-A2BB-566E7AA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F6FE-A247-4213-AE3C-1F42679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42E-E334-4A43-A565-1233B67E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B1341-90CC-46AD-BD24-F6ADD89B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752C-549D-432D-9B11-FC7033C3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BFC-DB69-438C-B652-ABD00257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CAAF-1035-488F-ACF8-70D5C2D1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4793-7270-4117-8AAE-A890CD06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4CFB-E0AC-4054-9C6F-ECAC91FF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34B-C207-474A-9870-E22E8F2B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2BE-DF09-472B-8A77-2EFC984D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6CD-30F8-46B1-9691-5DC2727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2696-E637-4A5F-AC4D-04AB84B17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75FE-64A7-48F3-8D1B-1850A5F27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000000"/>
                </a:solidFill>
                <a:latin typeface="Verdana"/>
              </a:rPr>
              <a:t>ASIGURAREA CALITĂŢII ÎN ÎNVĂŢĂMÂNTUL PREUNIVERSIT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ATRIBUŢII GENERALE ALE</a:t>
            </a:r>
            <a:r>
              <a:rPr b="1" i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.E.A.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ordonează aplicarea procedurilor şi activităţilor de autoevaluare instituţională şi privind calitatea educaţiei, conform domeniilor şi criteriilor prevăzute de Legea 87/200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laborează anual un Raport de evaluare internă privind calitatea educaţiei în unitatea şcolară respectivă – Raportul este adus la cunoştinţa beneficiarilor prin afişare sau publica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Formulează propuneri de îmbunătăţire a calităţii educaţie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ATRIBUŢII SPECIFICE ALE</a:t>
            </a:r>
            <a:r>
              <a:rPr b="1" i="1" lang="fr-FR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.E.A.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efineşt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în mod explicit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alorile, principiile şi indicatorii calităţi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struieşt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prin participare şi dezbatere,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nsensul tuturor purtătorilor de interes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elevi, părinţi, cadre didactice, angajatori, administraţie locală, alţi reprezentanţi ai comunităţii)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în privinţa valorilor, principiilor, indicatorilor de calitate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Urmăreşte respectarea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, în toate procedurile curente de funcţionare şi dezvoltare, a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valorilor, principiilor şi indicatorilor conveniţ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valuează impactul tuturor procesel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inclusiv şi mai ales al procesului de învăţământ)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şi al activităţilor desfăşurate în şcoală asupra calităţii educaţiei oferit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şi raporte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o-RO" sz="1700" spc="-1" strike="noStrike">
                <a:solidFill>
                  <a:srgbClr val="000000"/>
                </a:solidFill>
                <a:latin typeface="Verdana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în faţa autorităţilor şi a comunităţii, asupra modului în care a fost asigurată calitatea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pune măsuri de optimizare/creştere/dezvoltare a calităţii educaţiei oferite de unitatea şcolară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– la nivelul conceptului, principiilor, indicatorilor, standardelor privind calitatea, dar şi al procedurilor curente care privesc funcţionarea şi dezvoltarea şcolii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eţine toate materialele informative despre sistemul de management al calităţii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transmise în sistem, fiind obligată să prelucreze informaţia primită şi să o disemineze în şcoală şi către parteneri (elevi, părinţi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AUTOEVALUAR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 u="sng">
                <a:solidFill>
                  <a:srgbClr val="000000"/>
                </a:solidFill>
                <a:uFillTx/>
                <a:latin typeface="Verdana"/>
              </a:rPr>
              <a:t>Ce este autoevaluare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alitatea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enţială de asigurare a calităţii prin care instituţia şcolară îşi evaluează ea însăşi performanţ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 u="sng">
                <a:solidFill>
                  <a:srgbClr val="000000"/>
                </a:solidFill>
                <a:uFillTx/>
                <a:latin typeface="Verdana"/>
              </a:rPr>
              <a:t>Autoevaluare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?</a:t>
            </a:r>
            <a:r>
              <a:rPr b="1" lang="ro-RO" sz="2100" spc="-1" strike="noStrike" u="sng">
                <a:solidFill>
                  <a:srgbClr val="000000"/>
                </a:solidFill>
                <a:uFillTx/>
                <a:latin typeface="Verdana"/>
              </a:rPr>
              <a:t>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D</a:t>
            </a:r>
            <a:r>
              <a:rPr b="1" lang="ro-RO" sz="2100" spc="-1" strike="noStrike" u="sng">
                <a:solidFill>
                  <a:srgbClr val="000000"/>
                </a:solidFill>
                <a:uFillTx/>
                <a:latin typeface="Verdana"/>
              </a:rPr>
              <a:t>e ce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un pas iniţial, benefic şi util, cu scopul de a asigura dezvoltarea, creşterea şi nu de a sancţion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sigură autoreglarea, optimizarea şi revizuirea funcţionării şi dezvoltării instituţie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Reprezintă asumarea reală a rezultatelor ei de către toţi cei implicaţ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AUTOEVALUAREA - 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Verdana"/>
              </a:rPr>
              <a:t>Cum se realizeaz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Selectarea domeniului/criteriului (în cazul în care evaluarea nu vizează toate domeniile prevăzute de Legea 87/200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Diagnoza şi judecarea nivelului de realiz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Identificarea slăbiciunilor şi ţintelor pentru intervenţiile de remediere/dezvolt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Crearea unui grup de lucr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Modificarea/optimizarea PDI/PAS/PD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Desfăşurarea activităţilor de dezvoltare/ optimizare/ remed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Reaplicarea instrumentului de evalua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PLAN OPERAŢIONAL C.E.A.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Verdana"/>
              </a:rPr>
              <a:t>Obiectiv general:................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9280" y="2349360"/>
          <a:ext cx="8640720" cy="3686400"/>
        </p:xfrm>
        <a:graphic>
          <a:graphicData uri="http://schemas.openxmlformats.org/drawingml/2006/table">
            <a:tbl>
              <a:tblPr/>
              <a:tblGrid>
                <a:gridCol w="509760"/>
                <a:gridCol w="1189080"/>
                <a:gridCol w="1181160"/>
                <a:gridCol w="1109520"/>
                <a:gridCol w="1108080"/>
                <a:gridCol w="1033560"/>
                <a:gridCol w="1328760"/>
                <a:gridCol w="11808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c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iective specif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ităţ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-mente / resur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-sab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e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ali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ăţi de evalu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-tori de realiz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PLAN DE ÎMBUNĂTĂŢ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2276640"/>
          <a:ext cx="8569080" cy="4356000"/>
        </p:xfrm>
        <a:graphic>
          <a:graphicData uri="http://schemas.openxmlformats.org/drawingml/2006/table">
            <a:tbl>
              <a:tblPr/>
              <a:tblGrid>
                <a:gridCol w="512640"/>
                <a:gridCol w="806400"/>
                <a:gridCol w="1170000"/>
                <a:gridCol w="1392480"/>
                <a:gridCol w="1015920"/>
                <a:gridCol w="1253880"/>
                <a:gridCol w="1246320"/>
                <a:gridCol w="1171440"/>
              </a:tblGrid>
              <a:tr h="112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c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Ţin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ţiuni neces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zultate măsurabi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-sab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ţiuni priorit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icatori de perfor-manţă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uri / resurse neces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ADRUL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.U.G. nr.75/200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vind asigurarea calităţii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gea nr.87/200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ntru aprobarea O.U.G. nr.75/200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gulamentul de organizare şi funcţionare a unităţilor de învăţământ preuniversitar aprobat pr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.M.Ed.C. nr.4925/200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a descentralizări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învăţământului preuniversitar aprobată prin Memorandum în Şedinţa de Guvern din 20 decembrie 2005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.G. nr.1258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n 18. oct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rivind aprobarea Regulamentului de organizare si functionare ARACI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.G. nr.25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in 22 febr.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0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entru modificarea H.G. nr.1258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ALITATE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CALITATEA ES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Valoarea pe care indivizii, societatea o acordă serviciilor educaţionale şi educaţiei în ansamblul e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finită de clienţii/ beneficiarii serviciilor educaţion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Construită pe valori împărtăş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0360" y="1125360"/>
            <a:ext cx="43923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CALITATEA NU ES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sigurarea funcţionării şcolii. Vorbim de calitate doar după asigurarea funcţionării corespunzăto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Responsabilitatea exclusivă a şcoli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rodusă la comandă, prin efectul unei legi sau act normati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ALITATE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4244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CALITATEA ES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rodusă, în primul rând, de oame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sigurată printr-un sistem explicit de principii, criterii, standarde şi indicator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finită prin negociere între şcoală şi comunitate şi asumată în parteneri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Iniţiată prin autoevalua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 u="sng">
                <a:solidFill>
                  <a:srgbClr val="000000"/>
                </a:solidFill>
                <a:uFillTx/>
                <a:latin typeface="Verdana"/>
              </a:rPr>
              <a:t>CALITATEA NU ES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Condiţionată numai de bani şi resurse materi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Implicită şi un produs firesc al funcţionării norma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Impusă pe cale ierarhic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sigurată exclusiv prin evaluare extern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i="1" lang="ro-RO" sz="3400" spc="-1" strike="noStrike">
                <a:solidFill>
                  <a:srgbClr val="000000"/>
                </a:solidFill>
                <a:latin typeface="Verdana"/>
              </a:rPr>
              <a:t>ALITATEA EDUCAŢIE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000" spc="-1" strike="noStrike">
                <a:solidFill>
                  <a:srgbClr val="000000"/>
                </a:solidFill>
                <a:latin typeface="Verdana"/>
              </a:rPr>
              <a:t>este ansamblul de caracteristici ale unui program de studiu şi ale furnizorului acestuia, prin care sunt îndeplinite aşteptările beneficiarilor, precum şi standardele de calita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EDUCAŢIA DE CALIT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Se bazează pe inovaţie şi pe diversificar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oferită de instituţii responsabil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promovată de lideri educaţional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Respectă autonomia individuală şi are la bază autonomia instituţional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orientată pe rezultat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Se realizează în dialog şi prin parteneria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Este centrată pe clienţi şi beneficiarii serviciilor educaţion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sigură participarea actorilor educaţionali şi valoriz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z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resursele uman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Înţelege interdependenţa dintre furnizorii şi beneficiari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implicaţi în oferta de educaţie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ALITATEA EDUCAŢIEI ESTE ASIGURATĂ 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Actorii educaţionali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 (cadrele didactice, elevii, părinţii, conducerea şcolii etc.) – cu rol în producerea şi generarea educaţiei de calitat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Comisia pentru evaluarea şi asigurarea calităţii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, care are rol în asigurarea calităţii şi  în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valuare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ntern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ă a calităţii educaţie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Inspectoratul </a:t>
            </a: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şcolar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, care are rol î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 controlul calităţii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Verdana"/>
              </a:rPr>
              <a:t>Agenţia Română de Asigurare a Calităţii în Învăţământul Preuniversitar,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 care are rolul de evaluare externă a calităţii educaţie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COMISIA PENTRU EVALUAREA ŞI ASIGURAREA CALITĂŢ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000000"/>
                </a:solidFill>
                <a:uFillTx/>
                <a:latin typeface="Verdana"/>
              </a:rPr>
              <a:t>Componenţa: 4-8 membri + 1 coordon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)1-3 reprezentanţi ai corpului profesoral, aleşi prin vot secret de consiliul profesor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b)reprezentantul sindicat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)reprezentantul părinţ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d)reprezentantul elevilor, în cazul învăţământului profesional, liceal şi postlice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)reprezentantul Consiliului loca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f)reprezentantul agentului economic, dacă este cazul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g)reprezentantul minorităţilor naţionale, dacă este caz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000" spc="-1" strike="noStrike">
                <a:solidFill>
                  <a:srgbClr val="000000"/>
                </a:solidFill>
                <a:latin typeface="Verdana"/>
              </a:rPr>
              <a:t>PROCEDURA DE SELECŢIE A MEMBRILOR C.E.A.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elul către cadrele didactice din şcoală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Afişarea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ondiţiilor pe care trebuie să le îndeplineasc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punerea unei Scrisori de intenţie a cadrelor didactice, însoţite de Curriculum vitae şi Raport de activitat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ezentarea candidaţilor în Consiliul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fesoral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egerea de către Consiliul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fesoral, prin vot secret, a reprezentanţilor cadrelor didactic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unicarea </a:t>
            </a:r>
            <a:r>
              <a:rPr b="0" lang="ro-RO" sz="2100" spc="-1" strike="noStrike">
                <a:solidFill>
                  <a:srgbClr val="000000"/>
                </a:solidFill>
                <a:latin typeface="Verdana"/>
              </a:rPr>
              <a:t>/ afişarea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zultate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0T17:27:55Z</dcterms:created>
  <dc:creator>Emese</dc:creator>
  <dc:description/>
  <dc:language>en-US</dc:language>
  <cp:lastModifiedBy>Dana</cp:lastModifiedBy>
  <dcterms:modified xsi:type="dcterms:W3CDTF">2011-05-24T15:09:29Z</dcterms:modified>
  <cp:revision>31</cp:revision>
  <dc:subject/>
  <dc:title>ASIGURAREA CALITĂŢII ÎN ÎNVĂŢĂMÂNTUL PREUNIVERSITAR</dc:title>
</cp:coreProperties>
</file>